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9237-753A-416E-9FDD-464BE522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3A60-7B7F-4F7B-AE23-6E23F7FD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C78F-9B42-4906-97F5-5BD79004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0473-6939-4AE5-9735-B4690871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29CE-7F19-458C-B39D-51665FDA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9608-EA96-4F47-981A-ACEA86F3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3E3F-808B-46B8-93E4-8781CE94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7B96-CED7-450F-AC97-108B1DBF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F311-E3CA-4F27-B60B-38DE5B12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0A49-BAA8-4938-959F-54E408B8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3053-64AD-4C9C-805B-9292FDE7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0B0C-38B6-4015-8504-69D28601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2B2B-99D8-49D9-B47E-B2B51F4F7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14840" y="1022400"/>
            <a:ext cx="544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SIM II - San Joaquin River Ba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inements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42960" y="208584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5360" y="6060960"/>
            <a:ext cx="3678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by Dan Ste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behalf of the San Joaquin River Group Auth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14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idation of System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2960" y="141300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74760" y="1724040"/>
            <a:ext cx="6404040" cy="4800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9640" y="14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Don Pedro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rehensive San Joaquin River Basi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2960" y="141300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98600" y="1557360"/>
            <a:ext cx="7931160" cy="4873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776600" y="150804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alaver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9240" y="151596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tanisla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88680" y="151452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uolum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86240" y="151776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er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08840" y="151596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howchil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35840" y="152388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res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864560" y="152712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an Joaqu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90680" y="3732120"/>
            <a:ext cx="54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nal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17760" y="3944880"/>
            <a:ext cx="43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az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4160" y="3952800"/>
            <a:ext cx="58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ew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07440" y="3722760"/>
            <a:ext cx="49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n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33960" y="3978360"/>
            <a:ext cx="81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endota P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98360" y="4021200"/>
            <a:ext cx="118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San     Joaquin     R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rehensive San Joaquin River Basin Mode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Version Including Water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141300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6280" y="2708280"/>
            <a:ext cx="868680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SIM II Current Conditions Test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2960" y="141300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SIM II fully integrated model logic, last modifications through January 2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ic and results are currently under review with Recla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current basin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 16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 14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Melones Interim Operations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n Joaquin River Agre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SIM II Current Conditions Test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2960" y="141300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, results are presented for “Maze”, the San Joaquin River upstream of the Stanislaus confl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9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tures the effects of upstream operations of the Merced River and Tuolumne River, and the occasional flow from the upper San Joaquin River and Kings 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49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ter quality estimated with new CALSIM II mass balance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s are then presented for “Vernalis”, as the conditions are affected by the Stanislaus River and the operation of New Mel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9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tures the effects of New Melones operating to the Interim Plan of Operation, sometimes specifically for Vernalis flow and quality obj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ation of San Joaquin River at Ma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46280" y="1814400"/>
            <a:ext cx="7916760" cy="2340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42960" y="141300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57080" y="4179960"/>
            <a:ext cx="79171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ation of San Joaquin River at Maz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son to Previou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2960" y="141300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25320" y="1585800"/>
            <a:ext cx="791712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ation of San Joaquin River at Maz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son to Previou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2960" y="141300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19200" y="1500120"/>
            <a:ext cx="79167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ation of San Joaquin River at Vernali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islaus River Interim Plan of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177920" y="1649520"/>
            <a:ext cx="7139160" cy="2284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42960" y="141300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995400" y="4122720"/>
            <a:ext cx="719784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ation of San Joaquin River at Vernali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nalis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2960" y="141300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48320" y="1916280"/>
            <a:ext cx="7171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urrent water quality objective at Vernalis is a running 30-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of 700 uS/cm for April 1 through August 31, and 1000 uS/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eptember 1 through March 3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February through June non-pulse period (cfs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45800" y="49608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047600" y="3436920"/>
            <a:ext cx="71978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6048360" cy="5675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19554000">
            <a:off x="2271600" y="2060280"/>
            <a:ext cx="541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ff"/>
                </a:solidFill>
                <a:latin typeface="Arial"/>
              </a:rPr>
              <a:t>Calavera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34080" y="6284880"/>
            <a:ext cx="47520" cy="47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27400" y="4397400"/>
            <a:ext cx="36360" cy="3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99720" y="4303800"/>
            <a:ext cx="48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ff0000"/>
                </a:solidFill>
                <a:latin typeface="Arial"/>
              </a:rPr>
              <a:t>Newma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3440" y="37944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graphic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2960" y="98100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300560" y="1844640"/>
          <a:ext cx="565200" cy="7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00560" y="1844640"/>
                    <a:ext cx="56520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4788000" y="2276640"/>
            <a:ext cx="2887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12320" y="2160720"/>
            <a:ext cx="130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New Mel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32360" y="2924280"/>
            <a:ext cx="149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New Don Pe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92000" y="36291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New Excheq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8640" y="4700520"/>
            <a:ext cx="79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Buchan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64640" y="5084640"/>
            <a:ext cx="61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Hidd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58560" y="551664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Mille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15000" y="1528920"/>
            <a:ext cx="87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New Hog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339600">
            <a:off x="2918880" y="1963440"/>
            <a:ext cx="37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ff"/>
                </a:solidFill>
                <a:latin typeface="Arial"/>
              </a:rPr>
              <a:t>Ri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0884200">
            <a:off x="2843280" y="2957400"/>
            <a:ext cx="564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ff"/>
                </a:solidFill>
                <a:latin typeface="Arial"/>
              </a:rPr>
              <a:t>Stanislau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339600">
            <a:off x="3566520" y="2812680"/>
            <a:ext cx="37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ff"/>
                </a:solidFill>
                <a:latin typeface="Arial"/>
              </a:rPr>
              <a:t>Ri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0765400">
            <a:off x="2915640" y="3573000"/>
            <a:ext cx="5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ff"/>
                </a:solidFill>
                <a:latin typeface="Arial"/>
              </a:rPr>
              <a:t>Tuolum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21339600">
            <a:off x="3782520" y="3460320"/>
            <a:ext cx="37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ff"/>
                </a:solidFill>
                <a:latin typeface="Arial"/>
              </a:rPr>
              <a:t>Ri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0765400">
            <a:off x="3565800" y="4292280"/>
            <a:ext cx="448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ff"/>
                </a:solidFill>
                <a:latin typeface="Arial"/>
              </a:rPr>
              <a:t>Merc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21339600">
            <a:off x="4214160" y="4036680"/>
            <a:ext cx="37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ff"/>
                </a:solidFill>
                <a:latin typeface="Arial"/>
              </a:rPr>
              <a:t>Ri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4360" y="4189320"/>
            <a:ext cx="515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ff0000"/>
                </a:solidFill>
                <a:latin typeface="Arial"/>
              </a:rPr>
              <a:t>Stevins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57720" y="4348080"/>
            <a:ext cx="36360" cy="36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26200" y="4483080"/>
            <a:ext cx="420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ff0000"/>
                </a:solidFill>
                <a:latin typeface="Arial"/>
              </a:rPr>
              <a:t>Land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44920" y="4606920"/>
            <a:ext cx="36360" cy="3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60320" y="3305160"/>
            <a:ext cx="36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ff0000"/>
                </a:solidFill>
                <a:latin typeface="Arial"/>
              </a:rPr>
              <a:t>Maz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2360" y="3429000"/>
            <a:ext cx="36720" cy="3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99520" y="3241800"/>
            <a:ext cx="456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ff0000"/>
                </a:solidFill>
                <a:latin typeface="Arial"/>
              </a:rPr>
              <a:t>Vernali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920" y="3294000"/>
            <a:ext cx="36360" cy="36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18800" y="3125880"/>
            <a:ext cx="380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ff0000"/>
                </a:solidFill>
                <a:latin typeface="Arial"/>
              </a:rPr>
              <a:t>Rip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62360" y="3166920"/>
            <a:ext cx="36360" cy="36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71720" y="3473280"/>
            <a:ext cx="316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3433680"/>
            <a:ext cx="88920" cy="88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97000" y="3359160"/>
            <a:ext cx="474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ff0000"/>
                </a:solidFill>
                <a:latin typeface="Arial"/>
              </a:rPr>
              <a:t>Modest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84560" y="3513240"/>
            <a:ext cx="36360" cy="3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0765400">
            <a:off x="4421880" y="5068080"/>
            <a:ext cx="586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ff"/>
                </a:solidFill>
                <a:latin typeface="Arial"/>
              </a:rPr>
              <a:t>Chowchill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1363600">
            <a:off x="5207760" y="4917960"/>
            <a:ext cx="37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ff"/>
                </a:solidFill>
                <a:latin typeface="Arial"/>
              </a:rPr>
              <a:t>Ri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47400" y="5562720"/>
            <a:ext cx="436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ff"/>
                </a:solidFill>
                <a:latin typeface="Arial"/>
              </a:rPr>
              <a:t>Fresn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1363600">
            <a:off x="5411160" y="5554440"/>
            <a:ext cx="37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ff"/>
                </a:solidFill>
                <a:latin typeface="Arial"/>
              </a:rPr>
              <a:t>Ri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643000">
            <a:off x="5101560" y="6108480"/>
            <a:ext cx="322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ff"/>
                </a:solidFill>
                <a:latin typeface="Times New Roman"/>
              </a:rPr>
              <a:t>S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20943600">
            <a:off x="5389560" y="6019560"/>
            <a:ext cx="479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ff"/>
                </a:solidFill>
                <a:latin typeface="Times New Roman"/>
              </a:rPr>
              <a:t>Joaqu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0643000">
            <a:off x="5864760" y="5927760"/>
            <a:ext cx="378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ff"/>
                </a:solidFill>
                <a:latin typeface="Times New Roman"/>
              </a:rPr>
              <a:t>Riv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3094200">
            <a:off x="2416320" y="3445200"/>
            <a:ext cx="322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ff"/>
                </a:solidFill>
                <a:latin typeface="Times New Roman"/>
              </a:rPr>
              <a:t>S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3094200">
            <a:off x="2720160" y="3916440"/>
            <a:ext cx="479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ff"/>
                </a:solidFill>
                <a:latin typeface="Times New Roman"/>
              </a:rPr>
              <a:t>Joaqu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2534400">
            <a:off x="3117240" y="4485600"/>
            <a:ext cx="378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ff"/>
                </a:solidFill>
                <a:latin typeface="Times New Roman"/>
              </a:rPr>
              <a:t>Riv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76360" y="6261120"/>
            <a:ext cx="685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ff"/>
                </a:solidFill>
                <a:latin typeface="Arial"/>
              </a:rPr>
              <a:t>Mendota Poo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2129400">
            <a:off x="1690560" y="3147840"/>
            <a:ext cx="54360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" spc="-1" strike="noStrike">
                <a:solidFill>
                  <a:srgbClr val="000000"/>
                </a:solidFill>
                <a:latin typeface="Arial"/>
              </a:rPr>
              <a:t>Delta-Mendota Cana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2129400">
            <a:off x="1680480" y="3258720"/>
            <a:ext cx="5176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" spc="-1" strike="noStrike">
                <a:solidFill>
                  <a:srgbClr val="000000"/>
                </a:solidFill>
                <a:latin typeface="Arial"/>
              </a:rPr>
              <a:t>California Aqueduc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785400">
            <a:off x="3810240" y="5922720"/>
            <a:ext cx="54360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" spc="-1" strike="noStrike">
                <a:solidFill>
                  <a:srgbClr val="000000"/>
                </a:solidFill>
                <a:latin typeface="Arial"/>
              </a:rPr>
              <a:t>Delta-Mendota Cana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3193800">
            <a:off x="3486240" y="6002640"/>
            <a:ext cx="5176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" spc="-1" strike="noStrike">
                <a:solidFill>
                  <a:srgbClr val="000000"/>
                </a:solidFill>
                <a:latin typeface="Arial"/>
              </a:rPr>
              <a:t>California Aqueduc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19400" y="1047600"/>
            <a:ext cx="4400640" cy="5505480"/>
          </a:xfrm>
          <a:custGeom>
            <a:avLst/>
            <a:gdLst/>
            <a:ahLst/>
            <a:rect l="l" t="t" r="r" b="b"/>
            <a:pathLst>
              <a:path w="2772" h="3468">
                <a:moveTo>
                  <a:pt x="0" y="0"/>
                </a:moveTo>
                <a:lnTo>
                  <a:pt x="48" y="72"/>
                </a:lnTo>
                <a:lnTo>
                  <a:pt x="156" y="270"/>
                </a:lnTo>
                <a:lnTo>
                  <a:pt x="180" y="390"/>
                </a:lnTo>
                <a:lnTo>
                  <a:pt x="168" y="612"/>
                </a:lnTo>
                <a:lnTo>
                  <a:pt x="180" y="846"/>
                </a:lnTo>
                <a:lnTo>
                  <a:pt x="234" y="1050"/>
                </a:lnTo>
                <a:lnTo>
                  <a:pt x="240" y="1188"/>
                </a:lnTo>
                <a:lnTo>
                  <a:pt x="306" y="1242"/>
                </a:lnTo>
                <a:lnTo>
                  <a:pt x="444" y="1350"/>
                </a:lnTo>
                <a:lnTo>
                  <a:pt x="624" y="1542"/>
                </a:lnTo>
                <a:lnTo>
                  <a:pt x="822" y="1812"/>
                </a:lnTo>
                <a:lnTo>
                  <a:pt x="954" y="1920"/>
                </a:lnTo>
                <a:lnTo>
                  <a:pt x="1116" y="2028"/>
                </a:lnTo>
                <a:lnTo>
                  <a:pt x="1452" y="2226"/>
                </a:lnTo>
                <a:lnTo>
                  <a:pt x="2148" y="2910"/>
                </a:lnTo>
                <a:lnTo>
                  <a:pt x="2772" y="3468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51600" y="5238720"/>
            <a:ext cx="506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" spc="-1" strike="noStrike">
                <a:solidFill>
                  <a:srgbClr val="000000"/>
                </a:solidFill>
                <a:latin typeface="Arial"/>
              </a:rPr>
              <a:t>San Luis Reservoir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ation of San Joaquin River at Vernali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Melones Operations and Ver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31880" y="1557360"/>
            <a:ext cx="7916760" cy="24591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42960" y="141300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16040" y="4013280"/>
            <a:ext cx="7916760" cy="24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ation of San Joaquin River at Vernali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nalis Water Quality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2960" y="141300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173240" y="1514520"/>
            <a:ext cx="683712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ation of San Joaquin River at Vernali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nalis Flow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1120" y="3276720"/>
            <a:ext cx="2374920" cy="3260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159000" y="2935440"/>
            <a:ext cx="5399280" cy="3797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42960" y="141300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36480" y="1501920"/>
            <a:ext cx="791712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724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SIM II San Joaquin River Basin 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ed hydr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use based demands for Eastside water districts and adjacent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system operating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ed mapping of Westside and Eastside conne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inement / Addition of Friant and Calavera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ormulation for calculation of water quality at Vern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2960" y="141300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724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sed Hydr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am Accre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ss balance approach using long-term g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s for water entering and leaving stream rea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 Downstream G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Upstream G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 Di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Return 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 Runoff Adju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ant Value Repres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pitation run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storical stream-groundwater inte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g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2960" y="141300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tion of Land-use Based Demand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Use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2960" y="141300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354400" y="1600200"/>
          <a:ext cx="4522680" cy="50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4400" y="1600200"/>
                    <a:ext cx="452268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tion of Land Use Based Demand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41300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484360" y="1600200"/>
          <a:ext cx="380232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00200"/>
                    <a:ext cx="380232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724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ual Area Water Balan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Land Use De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2960" y="141300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63840" y="3459240"/>
            <a:ext cx="3687840" cy="1477800"/>
          </a:xfrm>
          <a:prstGeom prst="rect">
            <a:avLst/>
          </a:prstGeom>
          <a:noFill/>
          <a:ln w="63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39760" y="3592440"/>
            <a:ext cx="1930680" cy="1020960"/>
          </a:xfrm>
          <a:prstGeom prst="rightArrow">
            <a:avLst>
              <a:gd name="adj1" fmla="val 50000"/>
              <a:gd name="adj2" fmla="val 47276"/>
            </a:avLst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69880" y="4110120"/>
            <a:ext cx="493920" cy="753840"/>
          </a:xfrm>
          <a:custGeom>
            <a:avLst/>
            <a:gdLst>
              <a:gd name="textAreaLeft" fmla="*/ 0 w 493920"/>
              <a:gd name="textAreaRight" fmla="*/ 494280 w 493920"/>
              <a:gd name="textAreaTop" fmla="*/ 0 h 753840"/>
              <a:gd name="textAreaBottom" fmla="*/ 754200 h 753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931" stAng="10800000" swAng="5400000"/>
                <a:lnTo>
                  <a:pt x="14446" y="4229"/>
                </a:lnTo>
                <a:lnTo>
                  <a:pt x="14446" y="0"/>
                </a:lnTo>
                <a:lnTo>
                  <a:pt x="21600" y="6079"/>
                </a:lnTo>
                <a:lnTo>
                  <a:pt x="14446" y="12158"/>
                </a:lnTo>
                <a:lnTo>
                  <a:pt x="14446" y="7929"/>
                </a:lnTo>
                <a:lnTo>
                  <a:pt x="12427" y="7929"/>
                </a:lnTo>
                <a:arcTo wR="8727" hR="4231" stAng="16200000" swAng="-5400000"/>
                <a:lnTo>
                  <a:pt x="3700" y="21600"/>
                </a:ln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35640" y="2790720"/>
            <a:ext cx="161640" cy="993960"/>
          </a:xfrm>
          <a:prstGeom prst="upArrow">
            <a:avLst>
              <a:gd name="adj1" fmla="val 50000"/>
              <a:gd name="adj2" fmla="val 153731"/>
            </a:avLst>
          </a:pr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13280" y="3780000"/>
            <a:ext cx="1863720" cy="6681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00680" y="2786040"/>
            <a:ext cx="780840" cy="977760"/>
          </a:xfrm>
          <a:prstGeom prst="upArrow">
            <a:avLst>
              <a:gd name="adj1" fmla="val 50000"/>
              <a:gd name="adj2" fmla="val 31305"/>
            </a:avLst>
          </a:pr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02080" y="4484520"/>
            <a:ext cx="189000" cy="1422720"/>
          </a:xfrm>
          <a:prstGeom prst="downArrow">
            <a:avLst>
              <a:gd name="adj1" fmla="val 50000"/>
              <a:gd name="adj2" fmla="val 188190"/>
            </a:avLst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91200" y="230976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W from CU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38160" y="2532240"/>
            <a:ext cx="26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recoverable l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52760" y="5808600"/>
            <a:ext cx="26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p perc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7640" y="489420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W pu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81000" y="3767040"/>
            <a:ext cx="1015920" cy="446040"/>
          </a:xfrm>
          <a:prstGeom prst="rightArrow">
            <a:avLst>
              <a:gd name="adj1" fmla="val 50000"/>
              <a:gd name="adj2" fmla="val 56941"/>
            </a:avLst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30320" y="346248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11920" y="3941640"/>
            <a:ext cx="1190520" cy="344520"/>
          </a:xfrm>
          <a:prstGeom prst="rightArrow">
            <a:avLst>
              <a:gd name="adj1" fmla="val 50000"/>
              <a:gd name="adj2" fmla="val 86390"/>
            </a:avLst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49480" y="499284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ound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71880" y="3637080"/>
            <a:ext cx="1981080" cy="11430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31" name=""/>
          <p:cNvSpPr/>
          <p:nvPr/>
        </p:nvSpPr>
        <p:spPr>
          <a:xfrm>
            <a:off x="6270480" y="4375080"/>
            <a:ext cx="258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to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724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Budgets an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tion of System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2960" y="141300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historical land use to estimate consumptiv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historical operations data to perform water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s of water budgets are used to deve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am diversio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ndwater use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ct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ach varies depending on availabl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idation of system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sure model simulation depicts recent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tion of System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2960" y="141300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1781280"/>
            <a:ext cx="8229600" cy="4162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060560" y="16938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llustrative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03:16:21Z</dcterms:created>
  <dc:creator>Daniel Steiner</dc:creator>
  <dc:description/>
  <dc:language>en-US</dc:language>
  <cp:lastModifiedBy>Daniel Steiner</cp:lastModifiedBy>
  <dcterms:modified xsi:type="dcterms:W3CDTF">2005-03-14T05:50:06Z</dcterms:modified>
  <cp:revision>22</cp:revision>
  <dc:subject/>
  <dc:title>Slide 1</dc:title>
</cp:coreProperties>
</file>